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9B7-DD0A-4EBB-9570-0E336C7A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6FD-B666-4C2D-ADE4-517401E3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122-BE81-4BBB-A2FE-41CF19C1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7BC-B05C-4861-AE01-AA247014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9A4-01B2-4E35-80BC-F7EF5BA2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57D-A6E8-4E7E-BBFD-AB3FAAD3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A24-AB69-44E4-989F-BFBAA037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77C-8799-440E-AED9-E9030B33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18E-29EB-43B7-A696-687512A3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D1A-2E21-4A3F-BF7E-34BB90C9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9B6-E21B-4F88-ADAB-5F5A3783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780-B0FB-4971-80B7-9A4CE0D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DC0E-3748-47A5-86DA-C554C1899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Colos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Ty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4365720"/>
            <a:ext cx="3095640" cy="205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3600360" cy="202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y did they have the Colos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72 AD Emperor Vespasian decided to  build the Colosseum to bring entertainment and breath taking events to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22:32:41Z</dcterms:created>
  <dc:creator>6g02</dc:creator>
  <dc:description/>
  <dc:language>en-US</dc:language>
  <cp:lastModifiedBy>6g02</cp:lastModifiedBy>
  <dcterms:modified xsi:type="dcterms:W3CDTF">2011-07-11T22:52:04Z</dcterms:modified>
  <cp:revision>3</cp:revision>
  <dc:subject/>
  <dc:title>The Colosseum</dc:title>
</cp:coreProperties>
</file>